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287-D064-4195-A77E-773F8F5E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F65-17CF-4BEB-B5B2-613FE780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B9E-8369-489E-AD26-5C15C2A1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485-1081-41AB-92F3-8C075F4A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BBE-97CA-42D0-AE3D-2B546B3F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473-BA8F-4351-9F71-456FC7E3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5FF-535C-466A-974E-DF664B37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C5E-B1F6-4830-A5D9-54F12983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B20-0658-4172-BCCF-0439329B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45C-4E39-402A-9652-89B4F08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339-B91C-42A5-BC06-D12B3CC1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095-E7E9-47E5-BAC7-DD3E510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24F5-CFF5-490C-8B1A-332BD9986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oeti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e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590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nds of Po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building a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lf a bloc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 sit up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he shade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ing to the s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mmers pounding in n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ck thack thack tha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n I hear bi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ack thack tha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little love is not so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very littl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waiting on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s born f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s born to hustle roses dow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nues of th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skey on your brea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make a small boy dizzy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hung on like deat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waltzing was not e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! Oh, homework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te you! You stink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I could wash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y in the s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Repetition, rhythm, rhyme, consonance, and light all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nomatopoeia, consonance,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,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, rhyme, light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, rhyme, rhy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word’s pronunciation imitates its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n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e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roo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ing a word or words for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it out her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ne, all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, but 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it out her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words are arranged in such a way that they make a pattern or 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once was a girl from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yed her hair pink in the bath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making a pizza the size of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 the words instead of say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words have the same end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at the beginning, end, or middle of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first sounds in words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p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ed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le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rk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e.  W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ot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nson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eat in the middle or end of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we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ometim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nson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other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 n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S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l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, ble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 now!  With fie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pr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put some lines of poetry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ich techniques ar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iteration, consonance, rhythm, rhyme, and onomatopoe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ems use more than one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uckoo in our cuckoo c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wedded to an octop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laid a single wooden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hatched a cuckoocloctop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48:48Z</dcterms:created>
  <dc:creator>D</dc:creator>
  <dc:description/>
  <dc:language>en-US</dc:language>
  <cp:lastModifiedBy>Computer Tech</cp:lastModifiedBy>
  <dcterms:modified xsi:type="dcterms:W3CDTF">2013-01-21T17:44:53Z</dcterms:modified>
  <cp:revision>7</cp:revision>
  <dc:subject/>
  <dc:title>poetic devices lesson</dc:title>
</cp:coreProperties>
</file>